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1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4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AA06-CC88-4FAE-BA19-489CE3650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98CC-8C6E-4824-A2CA-5D86440F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FCF7-5359-4BE6-8019-6BF4A623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BFB7-0055-44BB-8EAE-32CB7DDB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87B3-A0C3-42BC-B255-5DB70289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A1B6-05AC-49A8-9C91-AEE56033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DC23-7EC2-419D-A6C5-5F3E887B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AEDD-20BF-465F-BAD3-7298CE09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78EC-017D-4957-BF88-7724E8AD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CAF3-9D3B-4F93-82D7-6738FA92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884E-9C9E-4CAB-B55D-DD000C1E3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DAA8-70B6-4503-A5B3-4E223BBCD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32640" indent="-3326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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32640" indent="-3326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32640" indent="-3326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332640" indent="-3326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332640" indent="-3326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332640" indent="-3326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2560" y="49320"/>
            <a:ext cx="9021600" cy="398880"/>
          </a:xfrm>
          <a:prstGeom prst="rect">
            <a:avLst/>
          </a:prstGeom>
          <a:noFill/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第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章  视频显示接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0" name="框a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42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框a2" descr=""/>
            <p:cNvPicPr/>
            <p:nvPr/>
          </p:nvPicPr>
          <p:blipFill>
            <a:blip r:embed="rId3"/>
            <a:stretch/>
          </p:blipFill>
          <p:spPr>
            <a:xfrm>
              <a:off x="439560" y="0"/>
              <a:ext cx="8271000" cy="3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框a3" descr=""/>
            <p:cNvPicPr/>
            <p:nvPr/>
          </p:nvPicPr>
          <p:blipFill>
            <a:blip r:embed="rId4"/>
            <a:stretch/>
          </p:blipFill>
          <p:spPr>
            <a:xfrm>
              <a:off x="8702640" y="0"/>
              <a:ext cx="441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框a4" descr=""/>
            <p:cNvPicPr/>
            <p:nvPr/>
          </p:nvPicPr>
          <p:blipFill>
            <a:blip r:embed="rId5"/>
            <a:stretch/>
          </p:blipFill>
          <p:spPr>
            <a:xfrm>
              <a:off x="419040" y="6454800"/>
              <a:ext cx="8285400" cy="40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麒靈" descr=""/>
          <p:cNvPicPr/>
          <p:nvPr/>
        </p:nvPicPr>
        <p:blipFill>
          <a:blip r:embed="rId6"/>
          <a:stretch/>
        </p:blipFill>
        <p:spPr>
          <a:xfrm>
            <a:off x="914400" y="685800"/>
            <a:ext cx="7316640" cy="5487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D495-345C-4C33-A46F-E543433973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21.xml"/><Relationship Id="rId8" Type="http://schemas.openxmlformats.org/officeDocument/2006/relationships/slide" Target="slide21.xml"/><Relationship Id="rId9" Type="http://schemas.openxmlformats.org/officeDocument/2006/relationships/slide" Target="slide36.xml"/><Relationship Id="rId10" Type="http://schemas.openxmlformats.org/officeDocument/2006/relationships/slide" Target="slide36.xml"/><Relationship Id="rId11" Type="http://schemas.openxmlformats.org/officeDocument/2006/relationships/slide" Target="slide36.xml"/><Relationship Id="rId12" Type="http://schemas.openxmlformats.org/officeDocument/2006/relationships/slide" Target="slide65.xml"/><Relationship Id="rId13" Type="http://schemas.openxmlformats.org/officeDocument/2006/relationships/slide" Target="slide65.xml"/><Relationship Id="rId1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视频显示接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1" action="ppaction://hlinksldjump"/>
              </a:rPr>
              <a:t>6.1  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2" action="ppaction://hlinksldjump"/>
              </a:rPr>
              <a:t>显示系统的组成及其工作原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3" action="ppaction://hlinksldjump"/>
              </a:rPr>
              <a:t>6.2  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4" action="ppaction://hlinksldjump"/>
              </a:rPr>
              <a:t>显示器的类型及性能参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5" action="ppaction://hlinksldjump"/>
              </a:rPr>
              <a:t>6.3  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6" action="ppaction://hlinksldjump"/>
              </a:rPr>
              <a:t>视频标准及视频接口的基本类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7" action="ppaction://hlinksldjump"/>
              </a:rPr>
              <a:t>6.4  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8" action="ppaction://hlinksldjump"/>
              </a:rPr>
              <a:t>视频方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9" action="ppaction://hlinksldjump"/>
              </a:rPr>
              <a:t>6.5  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10" action="ppaction://hlinksldjump"/>
              </a:rPr>
              <a:t>VGA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11" action="ppaction://hlinksldjump"/>
              </a:rPr>
              <a:t>视频接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12" action="ppaction://hlinksldjump"/>
              </a:rPr>
              <a:t>6.6  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13" action="ppaction://hlinksldjump"/>
              </a:rPr>
              <a:t>几种典型的显示卡参数与现代显卡中的新技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95640" y="18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95640" y="18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467480" cy="4999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047320" y="6095880"/>
            <a:ext cx="48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3  VG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显示方式数据线定义及其接口插头外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676520" y="55627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1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显示器数据接插件信号配置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7598160" y="6324480"/>
            <a:ext cx="72936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447920" y="990720"/>
          <a:ext cx="6324480" cy="428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990720"/>
                    <a:ext cx="6324480" cy="42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2.3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关显示器性能的几个参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99840" y="16761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.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列出了几种常见显示器的性能参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62320" y="2438280"/>
            <a:ext cx="457200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像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点时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分辨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水平扫描频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垂直扫描频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82880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2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几种常见显示器的性能参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7598160" y="6324480"/>
            <a:ext cx="72936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" y="1676520"/>
          <a:ext cx="8153280" cy="244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76520"/>
                    <a:ext cx="8153280" cy="24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3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视频标准及视频接口的基本类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04760" y="228564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6.3.1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显示控制适配器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6.3.2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其他几种适配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6.3.3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关于视频显示的几个概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7446600" y="6324480"/>
            <a:ext cx="100368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3.1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显示控制适配器标准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单色显示适配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MD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显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列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×2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行字符，每个字符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9×1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点阵，分辨率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720×35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不能兼容图形方式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彩色图形适配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可兼容图形与字符两种显示方式，字符采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×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点阵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增强型图形适配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E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它能兼容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所有功能。字符显示采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×1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点阵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61760" y="1523880"/>
            <a:ext cx="73911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视频图形阵列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VGA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V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能兼容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E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字符显示采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9×1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点阵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超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V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它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V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完全兼容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5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种颜色甚至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4M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真彩色。对应产品有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V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TV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等，这些新的显示标准都向下兼容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E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98160" y="6324480"/>
            <a:ext cx="72936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1760" y="9903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3.2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其他几种适配器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52120" y="2361960"/>
            <a:ext cx="6324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HG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大力神图形卡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P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IBM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专用的图形适配器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524/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甚高分辨率图形适配器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X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扩充的图形阵列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98160" y="6324480"/>
            <a:ext cx="72936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3.3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关于视频显示的几个概念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2438280"/>
            <a:ext cx="769644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像素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Pixe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：指显示屏幕上颜色和亮度可以被控制的最小单元，即一个圆点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分辨率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Resolutio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：水平方向显示的像素数与垂直方向显示像素数的乘积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视频模式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Video mod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：分为文本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Tex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和图形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Graphic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两种类型。文本模式下屏幕被划分为矩形的字符位置——屏幕的横向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列字符；图形模式下屏幕被分为由许多很小的点（即像素）构成的点阵，使用这些点可以在屏幕上构成任何图案（包括字符）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8377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本章学习目标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2057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显示系统的结构组成和工作原理及参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视频方式及视频接口的基本类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各类视频方式的原理及主要性能参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视频接口电路的组成及其工作原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常见视频接口适配器的主要性能参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了解现代微机系统中视频显示接口卡中使用的新技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7446600" y="6324480"/>
            <a:ext cx="100368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43000" y="1295280"/>
            <a:ext cx="7086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决定单色显示器分辨率的因素有两个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行频和视频输出的频带宽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影响彩色显示器显示分辨率的要素有三个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一：是荧光屏上两个相邻像素之间的距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二：影响彩显分辨率的是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R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聚焦能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三：频带宽度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98160" y="6324480"/>
            <a:ext cx="72936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4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视频方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90920" y="2590920"/>
            <a:ext cx="48765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6.4.1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视频方式组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6.4.2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文本方式与变换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6.4.3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图形显示方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6.4.4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两种显示比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7446600" y="6324480"/>
            <a:ext cx="100368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066680" y="11430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显示系统的各组成部分：显示器、显示适配器、刷新缓存和视频服务程序都应符合该类系统的要求和参数。视频方式就是用来描述显示系统中各部分的标准参数，如下所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95280" y="3276720"/>
          <a:ext cx="6705720" cy="14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276720"/>
                    <a:ext cx="670572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4.1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视频方式组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2133360"/>
            <a:ext cx="7162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方式（视频方式号）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类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颜色                            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分辨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字符矩阵                    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刷新缓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380988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常见三种显示适配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V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V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X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视频方式分别如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.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.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.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590920" y="594360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3  VG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视频显示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95280" y="838080"/>
          <a:ext cx="640080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838080"/>
                    <a:ext cx="640080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447920" y="121932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4  Super VGA/8514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的图形视频方式（注：所有向下兼容的视频方式略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990720" y="2895480"/>
          <a:ext cx="7657920" cy="18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95480"/>
                    <a:ext cx="7657920" cy="18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971800" y="5486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6.5  XG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视频方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598160" y="6324480"/>
            <a:ext cx="72936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85800" y="2209680"/>
          <a:ext cx="8001000" cy="301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8001000" cy="30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4.2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文本方式与变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般显示电路含有两部分，即刷新缓存和显示变换。当适配器处于字符显示模式时，字符显示代码保存在字符发生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ROM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中。当需要调用时，从刷新缓存依次取出字符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SCI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码字节，作为调用显示字符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ROM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地址，然后由显示变换时钟一个点一个点地串行输出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752120" y="1904760"/>
            <a:ext cx="67820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字符发生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ROM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如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所示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刷新缓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显示变换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如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5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所示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0880" y="1143000"/>
            <a:ext cx="8382240" cy="18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电路的基本功能是：在点时钟时序的控制下，一边读出点阵信息，一边向显示器输出串行点阵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显示变换电路的基本原理：首先，时钟发生器将点阵时钟进行分频，依次将屏幕所需字符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SCI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码取出；再在字符行时钟作用下，从字符发生器中取出对应点阵字节序列；最后由串行输出部件组合点阵与属性，将并行转换为串行点流从适配器输出。至此，一个字符显示结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1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显示系统的组成及其工作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理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480" y="22093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1" action="ppaction://hlinksldjump"/>
              </a:rPr>
              <a:t>6.1.1 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2" action="ppaction://hlinksldjump"/>
              </a:rPr>
              <a:t>显示系统的组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3" action="ppaction://hlinksldjump"/>
              </a:rPr>
              <a:t>6.1.2 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4" action="ppaction://hlinksldjump"/>
              </a:rPr>
              <a:t>显示系统的工作原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>
            <a:hlinkClick r:id="rId5" action="ppaction://hlinksldjump"/>
          </p:cNvPr>
          <p:cNvSpPr/>
          <p:nvPr/>
        </p:nvSpPr>
        <p:spPr>
          <a:xfrm>
            <a:off x="7446600" y="6324480"/>
            <a:ext cx="100368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286000" y="54100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.4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字符点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7180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438280" y="1143000"/>
            <a:ext cx="4267440" cy="38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981080" y="601992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5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字符显示变换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5760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77320" cy="41338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598160" y="6324480"/>
            <a:ext cx="72936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4.3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图形显示方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图形方式又称为全方位寻址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PA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显示方式。如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.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，介绍图形视频显示方式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图形显示方式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VGA 13H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模式）的工作原理框图如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.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133720" y="54864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6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图形方式的典型模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7164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523880" y="1676160"/>
            <a:ext cx="5867280" cy="2361960"/>
            <a:chOff x="1523880" y="1676160"/>
            <a:chExt cx="5867280" cy="2361960"/>
          </a:xfrm>
        </p:grpSpPr>
        <p:sp>
          <p:nvSpPr>
            <p:cNvPr id="178" name=""/>
            <p:cNvSpPr/>
            <p:nvPr/>
          </p:nvSpPr>
          <p:spPr>
            <a:xfrm>
              <a:off x="5772600" y="1676520"/>
              <a:ext cx="1618560" cy="236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5773680" y="16758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5976360" y="16758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6178320" y="1675800"/>
              <a:ext cx="20124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6380640" y="1675800"/>
              <a:ext cx="20124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6582960" y="16758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6785640" y="16758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6987600" y="1675800"/>
              <a:ext cx="20124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189920" y="1675800"/>
              <a:ext cx="20124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773680" y="19717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5976360" y="19717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6178320" y="197172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6380640" y="197172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6582960" y="19717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6784200" y="226692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987600" y="197172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7189920" y="197172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772600" y="22669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974920" y="226692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177240" y="22669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379560" y="22669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582240" y="22669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6784200" y="197172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6986520" y="22669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7189200" y="22669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5772600" y="25621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5974920" y="256212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6177240" y="25621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379560" y="25621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6582240" y="25621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6784200" y="2562120"/>
              <a:ext cx="202320" cy="295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6986520" y="25621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7189200" y="25621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5772600" y="28576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5974920" y="285768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6177240" y="28576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6379560" y="28576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582240" y="28576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6784200" y="285768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6986520" y="28576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7189200" y="28576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5772600" y="31528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5974920" y="315288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177240" y="31528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379560" y="31528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6582240" y="31528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6784200" y="315288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6986520" y="31528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7189200" y="31528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5772600" y="34480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5974920" y="344808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6177240" y="34480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6379560" y="34480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6582240" y="34480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6784200" y="344808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986520" y="34480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7189200" y="34480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5772600" y="37422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5974920" y="3742200"/>
              <a:ext cx="20124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6177240" y="37422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6379560" y="37422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6582240" y="37422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6783120" y="3742920"/>
              <a:ext cx="202320" cy="295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6986520" y="37422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7189200" y="37422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72600" y="2266920"/>
              <a:ext cx="161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772600" y="2857680"/>
              <a:ext cx="1618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72600" y="3448080"/>
              <a:ext cx="161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82240" y="1676520"/>
              <a:ext cx="0" cy="236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547080" y="1676520"/>
              <a:ext cx="1618560" cy="236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3548160" y="16758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750480" y="1675800"/>
              <a:ext cx="20124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952800" y="1675800"/>
              <a:ext cx="20124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4155120" y="16758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4357440" y="16758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4559760" y="1675800"/>
              <a:ext cx="20124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762080" y="1675800"/>
              <a:ext cx="20124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4964400" y="16758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3548160" y="19717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750480" y="197172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952800" y="197172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4155120" y="19717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4357440" y="19717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4558680" y="22669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4762080" y="197172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4964400" y="19717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3547080" y="226692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749400" y="22669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951720" y="22669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154040" y="22669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356360" y="226692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4558680" y="19717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4761000" y="22669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4963320" y="22669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3547080" y="256212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749400" y="25621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951720" y="25621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4154040" y="25621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4356360" y="256212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4558680" y="2562120"/>
              <a:ext cx="202320" cy="295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4761000" y="25621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4963320" y="25621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3547080" y="285768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3749400" y="28576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3951720" y="28576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4154040" y="28576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4356360" y="285768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4558680" y="28576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4761000" y="28576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4963320" y="28576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547080" y="315288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3749400" y="31528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3951720" y="31528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4154040" y="31528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4356360" y="315288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4558680" y="31528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4761000" y="31528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4963320" y="31528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3547080" y="344808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3749400" y="34480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3951720" y="34480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4154040" y="34480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4356360" y="344808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4558680" y="34480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4761000" y="34480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4963320" y="34480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3547080" y="3742200"/>
              <a:ext cx="20124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3749400" y="37422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951720" y="37422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4154040" y="37422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4356360" y="3742200"/>
              <a:ext cx="20124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4557600" y="3742920"/>
              <a:ext cx="201960" cy="295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4761000" y="37422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4963320" y="37422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547080" y="2266920"/>
              <a:ext cx="161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47080" y="2857680"/>
              <a:ext cx="161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547080" y="3448080"/>
              <a:ext cx="161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356360" y="1676520"/>
              <a:ext cx="0" cy="236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5772600" y="25621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23880" y="1676520"/>
              <a:ext cx="1618560" cy="236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1524600" y="1675800"/>
              <a:ext cx="20124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1727280" y="16758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1929600" y="16758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2131560" y="1675800"/>
              <a:ext cx="20124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2333880" y="1675800"/>
              <a:ext cx="20124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2536560" y="16758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2738880" y="16758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2940840" y="1675800"/>
              <a:ext cx="20124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1524600" y="197172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1727280" y="19717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1929600" y="19717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2131560" y="197172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2333880" y="197172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2535480" y="22669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2738880" y="19717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2940840" y="197172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1523880" y="22669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1726200" y="22669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1928160" y="226692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2130480" y="22669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2333160" y="22669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2535480" y="19717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2737440" y="226692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2940120" y="22669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1523880" y="25621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1726200" y="25621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1928160" y="256212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2130480" y="25621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2333160" y="25621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2535480" y="2562120"/>
              <a:ext cx="201960" cy="295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2737440" y="256212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2940120" y="25621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1523880" y="28576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1726200" y="28576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1928160" y="285768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2130480" y="28576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2333160" y="28576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2535480" y="28576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2737440" y="285768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2940120" y="28576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1523880" y="31528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1726200" y="31528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1928160" y="315288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2130480" y="31528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2333160" y="31528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535480" y="31528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2737440" y="315288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2940120" y="31528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523880" y="34480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1726200" y="34480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1928160" y="344808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2130480" y="34480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2333160" y="34480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2535480" y="34480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2737440" y="3448080"/>
              <a:ext cx="20124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940120" y="344808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523880" y="37422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726200" y="37422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1928160" y="3742200"/>
              <a:ext cx="20124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2130480" y="37422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333160" y="37422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2534040" y="3742920"/>
              <a:ext cx="202320" cy="295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2737440" y="3742200"/>
              <a:ext cx="20124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2940120" y="3742200"/>
              <a:ext cx="200880" cy="29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23880" y="2266920"/>
              <a:ext cx="161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23880" y="2857680"/>
              <a:ext cx="161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23880" y="3448080"/>
              <a:ext cx="161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33160" y="1676520"/>
              <a:ext cx="0" cy="236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1523880" y="2562120"/>
              <a:ext cx="200880" cy="293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951720" y="1676520"/>
              <a:ext cx="0" cy="236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761000" y="1676520"/>
              <a:ext cx="0" cy="236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1523880" y="443376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色像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81280" y="443376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色像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43600" y="443376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色像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981080" y="571500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7  VGA 13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模式（图形显示方式）工作原理示意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93364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6248160" cy="4559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7598160" y="6324480"/>
            <a:ext cx="72936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4.4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两种显示比较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处理和访问的最小单位不同：访问的是刷新缓冲寄存器的字节；图形方式则按像素在刷新缓存中字节所在的位去访问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处理和访问的属性数据不同：文本方式字符的属性作用于串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并转换器件上；图形方式则将属性数据作用于颜色编码器上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存储容量不同：文本显示方式的缓存容量固定不变，而图形显示方式的容量不定，要由点与颜色的关系决定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598160" y="6324480"/>
            <a:ext cx="72936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94920" y="106632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5  VG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视频接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666520" y="2514240"/>
            <a:ext cx="4800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6.5.1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视频适配器结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6.5.2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适配器的性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6.5.3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端口寄存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>
            <a:hlinkClick r:id="rId1" action="ppaction://hlinksldjump"/>
          </p:cNvPr>
          <p:cNvSpPr/>
          <p:nvPr/>
        </p:nvSpPr>
        <p:spPr>
          <a:xfrm>
            <a:off x="7446600" y="6324480"/>
            <a:ext cx="100368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5.1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视频适配器结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4678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如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8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所示为一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GP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接口的视频适配器的外形图，其组成由图形处理控制芯片、显示缓存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RAM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BIOS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芯片、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AC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数字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模拟转换控制器）及输出接口插座组成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905120" y="49528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8  VG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视频适配器外形结构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0098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385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1980720" y="990360"/>
            <a:ext cx="5334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视频控制芯片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CRT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990720" y="18288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RT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显示芯片）按其芯片档次及所支持的显示方式可分为（如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.9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） 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19320" y="3124080"/>
            <a:ext cx="6629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彩色图形显示芯片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显示芯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代显示芯片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二代显示芯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三代显示芯片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四代显示芯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1.1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显示系统的组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个完整的微型计算机显示系统由显示控制适配器和显示器（即监视器）组成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60958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微机显示系统组成示意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7164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19320" y="2819520"/>
            <a:ext cx="6324480" cy="2895480"/>
          </a:xfrm>
          <a:prstGeom prst="rect">
            <a:avLst/>
          </a:prstGeom>
          <a:ln w="0">
            <a:noFill/>
          </a:ln>
        </p:spPr>
      </p:pic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7598160" y="6324480"/>
            <a:ext cx="72936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2133720" y="58672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.9  VGA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视频适配器示意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91916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239240" cy="423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133360" y="762120"/>
            <a:ext cx="4724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刷新缓存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D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05272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8763120" cy="47102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2286000" y="59436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10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装入式字符发生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3581280" y="1523520"/>
            <a:ext cx="2286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D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143000" y="274320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于供用户执行调色板选择功能调用，还具有转换显示数据的作用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2895120" y="1599840"/>
            <a:ext cx="3429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VGA B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219320" y="274320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GA BIO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除了包含新视频方式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IO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调用程序外，还有字符阵列码信息。在视频系统中，它是主机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PU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显示系统设备的重要接口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3048120" y="1066320"/>
            <a:ext cx="3962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总线接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990720" y="22096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显示适配器要接在微机系统主板上与主板进行数据传输。与主板连接的接口主要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IS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EIS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VES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PC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G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等几种。常见的是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PC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G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接口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PC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G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接口总线的显示适配器总线带宽速度快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598160" y="6324480"/>
            <a:ext cx="72936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5.2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适配器的性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828440" y="17521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V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视频图形矩阵的主要性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57200" y="259092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垂直分辨率达到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8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以上，同时向下兼容；刷新缓存位图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，每个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4K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；颜色调色板增加到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56K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以上；字符集可装入的模块增加到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×8K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共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4K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；增加了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A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视频显示转换器软硬件；采用软件控制比仅靠硬件管理具有更大的灵活性、适应性和可扩展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1981080" y="12193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VGA BIO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的主要服务功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43000" y="24382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直接控制功能，可作视频方式设置、显示输出的设置等；交互功能、文本方式、图形方式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A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颜色查询表、字符发生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598160" y="6324480"/>
            <a:ext cx="72936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5.3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端口寄存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V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寄存器主要由外部寄存器、序列发生器寄存器、图形控制器寄存器、属性控制器寄存器和视频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A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寄存器组成。这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种寄存如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.1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，每种寄存器又由多个端口寄存组成。每个寄存器的作用是按位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Bi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实现的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1523880" y="51814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1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视频控制器及寄存器组成示意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23344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315200" cy="32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2971800" y="9907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外部寄存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9051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外部寄存器组共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个端口、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个寄存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1143000" y="3124080"/>
            <a:ext cx="6858000" cy="230832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2819520" y="25146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6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外部寄存地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1.2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显示系统的工作原理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显示系统的工作原理，如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所示。显示接口卡从主机接受显示输出信号，经过处理和变换然后输出。显示器从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VG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显示卡的输出端口接收红、蓝、绿三色模拟信号及行同步信号和场同步信号，并对它们进行不同的处理后送到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R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这样才可以在屏幕上显示出字符和图像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2666520" y="914400"/>
            <a:ext cx="4343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序列发生器寄存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33720" y="19051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7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序列发生器寄存器地址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1066680" y="2666880"/>
          <a:ext cx="69422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666880"/>
                    <a:ext cx="69422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1600200" y="5638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1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字符映像模块选择示意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05272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304920" y="1563840"/>
            <a:ext cx="8076960" cy="32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2209320" y="761760"/>
            <a:ext cx="441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图形控制器寄存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828800" y="1295280"/>
            <a:ext cx="5638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如表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.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.9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.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所示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133720" y="21337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8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图形控制器寄存器地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1447920" y="2895480"/>
          <a:ext cx="6705360" cy="32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895480"/>
                    <a:ext cx="6705360" cy="32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2971800" y="14479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.9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功能选择字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1219320" y="2286000"/>
          <a:ext cx="678168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86000"/>
                    <a:ext cx="67816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1752480" y="14479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10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显示存储器主机中的地址映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1371600" y="2590920"/>
          <a:ext cx="6781680" cy="27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590920"/>
                    <a:ext cx="6781680" cy="27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2590920" y="1066680"/>
            <a:ext cx="4495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属性控制器寄存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62120" y="1981080"/>
            <a:ext cx="75438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属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属性有单色属性和彩色属性字节如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1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及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1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所示，其属性定义如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1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及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1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属性端口寄存器属性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如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1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所示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颜色寄存器的分组方式如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15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所示；允许颜色位图寄存器作用如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16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所示；视频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AC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系统如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17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所示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2514600" y="12193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11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单色属性字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1295280" y="2286000"/>
          <a:ext cx="6858000" cy="332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86000"/>
                    <a:ext cx="6858000" cy="33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2819520" y="11430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12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彩色属性字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1828800" y="2133720"/>
          <a:ext cx="5791320" cy="369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133720"/>
                    <a:ext cx="5791320" cy="36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523880" y="56386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13  VG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属性字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0988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8839080" cy="223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2743200" y="13716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13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属性寄存器地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1143000" y="2057400"/>
          <a:ext cx="6781680" cy="34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57400"/>
                    <a:ext cx="6781680" cy="34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600200" y="57150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.2  VG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显示系统工作原理框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1948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534520" cy="4076640"/>
          </a:xfrm>
          <a:prstGeom prst="rect">
            <a:avLst/>
          </a:prstGeom>
          <a:ln w="0">
            <a:noFill/>
          </a:ln>
        </p:spPr>
      </p:pic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7598160" y="6324480"/>
            <a:ext cx="72936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2743200" y="41911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14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调色板寄存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1295280" y="2057400"/>
          <a:ext cx="664380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057400"/>
                    <a:ext cx="66438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1981080" y="57150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.15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颜色寄存器的分组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4764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848720" cy="390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2362320" y="59436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16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调色板单元选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6236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305920" cy="40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1981080" y="563868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17  D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系统组成示意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1430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304920" y="1538280"/>
            <a:ext cx="8381880" cy="35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2514600" y="14479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14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视频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AC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寄存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1219320" y="2286000"/>
          <a:ext cx="6675480" cy="29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86000"/>
                    <a:ext cx="667548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6" name=""/>
          <p:cNvSpPr/>
          <p:nvPr/>
        </p:nvSpPr>
        <p:spPr>
          <a:xfrm>
            <a:off x="7598160" y="6324480"/>
            <a:ext cx="72936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6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几种典型的显示卡参数与现代显卡中的新技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133360" y="2286000"/>
            <a:ext cx="60958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6.6.1  TVGA900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显示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6.6.2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显示接口电路中的新技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6.6.3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几种常见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G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显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>
            <a:hlinkClick r:id="rId1" action="ppaction://hlinksldjump"/>
          </p:cNvPr>
          <p:cNvSpPr/>
          <p:nvPr/>
        </p:nvSpPr>
        <p:spPr>
          <a:xfrm>
            <a:off x="7446600" y="6324480"/>
            <a:ext cx="100368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2133720" y="8380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.15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几代显示适配器的主要参数和特征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1371600" y="1905120"/>
          <a:ext cx="6781680" cy="45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05120"/>
                    <a:ext cx="6781680" cy="45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6.1  TVGA9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显示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TVGA900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显示卡的主要性能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38080" y="2590920"/>
            <a:ext cx="739152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0" lang="zh-CN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适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用于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86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86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86PC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机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如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18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所示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可兼容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ercules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D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G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EG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VG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显示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支持逐行扫描和隔行扫描显示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与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ulti-Sync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S/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显示器兼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2Hz VES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的标准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00×6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分辨率下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1295280" y="1828800"/>
            <a:ext cx="685800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0Hz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的场频下，显示器的分辨率支持可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024×768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扩展的文本显示模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列文本模式，支持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3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列文本模式，支持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237636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371600" y="55627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18  TVGA9000 I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彩色图形适配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37636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924680" cy="450360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7979040" y="6324480"/>
            <a:ext cx="72936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2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显示器的类型及性能参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99840" y="2209680"/>
            <a:ext cx="6553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1" action="ppaction://hlinksldjump"/>
              </a:rPr>
              <a:t>6.2.1  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2" action="ppaction://hlinksldjump"/>
              </a:rPr>
              <a:t>显示器的类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3" action="ppaction://hlinksldjump"/>
              </a:rPr>
              <a:t>6.2.2  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4" action="ppaction://hlinksldjump"/>
              </a:rPr>
              <a:t>显示器的工作原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5" action="ppaction://hlinksldjump"/>
              </a:rPr>
              <a:t>6.2.3  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6" action="ppaction://hlinksldjump"/>
              </a:rPr>
              <a:t>有关显示器性能的几个参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>
            <a:hlinkClick r:id="rId7" action="ppaction://hlinksldjump"/>
          </p:cNvPr>
          <p:cNvSpPr/>
          <p:nvPr/>
        </p:nvSpPr>
        <p:spPr>
          <a:xfrm>
            <a:off x="7446600" y="6324480"/>
            <a:ext cx="100368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6.2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显示接口电路中的新技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209680" y="1828800"/>
            <a:ext cx="5029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多芯片集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增加数据通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更快的内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显存带宽改进技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可升级架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多显示器支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979040" y="6324480"/>
            <a:ext cx="72936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6.3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几种常见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G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显卡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67057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几种显卡分别如下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Nvidia Reference GeForce2 MX 32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Nvidia Reference GeForce2 MX 400 64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Hercules 3D Prophet 4000XT Kyro 32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Hercules 3D Prophet 4500 Kyro II 64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TI Radeon VE 32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371600" y="472428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这几种显卡的主要性能参数如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16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19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2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2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1371600" y="10666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16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几种常见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GP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显卡的主要性能参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990720" y="2209680"/>
          <a:ext cx="7772400" cy="29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777240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263844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6553080" cy="487692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7091280" y="990720"/>
            <a:ext cx="10335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19  Nvidi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GeForce2 MX 2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显示适配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447920" y="52578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.20  ST MicroKyro 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Kyro I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显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4328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why2001060602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5943600" cy="41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293364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why2001060603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5638680" cy="472428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2346480" y="6019920"/>
            <a:ext cx="42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.21  ATI Radeon V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显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979040" y="6324480"/>
            <a:ext cx="72936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THANK YOU VERY MUCH 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！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本章到此结束，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谢谢您的光临！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>
            <a:hlinkClick r:id="rId1" action="ppaction://hlinksldjump"/>
          </p:cNvPr>
          <p:cNvSpPr/>
          <p:nvPr/>
        </p:nvSpPr>
        <p:spPr>
          <a:xfrm>
            <a:off x="7446600" y="6324480"/>
            <a:ext cx="100368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章首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>
            <a:hlinkClick r:id="" action="ppaction://hlinkshowjump?jump=endshow"/>
          </p:cNvPr>
          <p:cNvSpPr/>
          <p:nvPr/>
        </p:nvSpPr>
        <p:spPr>
          <a:xfrm>
            <a:off x="5693040" y="6324480"/>
            <a:ext cx="72936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结束放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2.1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显示器的类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按显示屏的结构分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R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阴极射线管式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LC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液晶式显示器；按色彩形式分为单色显示器和彩色显示器；按视频信号的输入形式分为数字式和模拟式显示器；按分辨率分为高分辨率和低分辨率显示器；按显示方式分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MD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E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V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V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及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X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等几种方式。现在基本上使用的是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R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LC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7598160" y="6324480"/>
            <a:ext cx="729360" cy="368280"/>
          </a:xfrm>
          <a:prstGeom prst="rect">
            <a:avLst/>
          </a:prstGeom>
          <a:noFill/>
          <a:ln cap="rnd" w="3816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Times New Roman"/>
                <a:ea typeface="隶书"/>
              </a:rPr>
              <a:t>返回本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2.2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显示器的工作原理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显示接口卡与显示器之间的数据联接采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根或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根数据线连接。并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型插头与显示接口卡进行物理连接。如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.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V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显示方式数据线及其定义情况和接口插座的外形图，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.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显示器接插件信号配置表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10:58:39Z</dcterms:created>
  <dc:creator>liwu</dc:creator>
  <dc:description/>
  <dc:language>en-US</dc:language>
  <cp:lastModifiedBy>新人电脑</cp:lastModifiedBy>
  <dcterms:modified xsi:type="dcterms:W3CDTF">2002-01-25T03:18:56Z</dcterms:modified>
  <cp:revision>49</cp:revision>
  <dc:subject/>
  <dc:title>PowerPoint 演示文稿</dc:title>
</cp:coreProperties>
</file>